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02D-9371-4AD0-8BFA-1662D007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81D-820E-47B1-967C-5A3D85A6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D90-625E-43C5-8CCE-8816FD15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59C-83A7-4A7B-9655-C70EA2AC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666E-EE45-4E87-AD94-EC29AABB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495F-BF49-467D-A04C-D239E4FF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3E33-062F-47BC-B75D-0594B090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79D8-6D5E-4413-AFBD-722065A2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99F6-72AD-4101-8515-E0B0B72D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0369-5527-4385-AE2A-27027320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1450-38F9-4E26-BA1C-77969F6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2E2-8A68-4901-8FEF-EC55EFB7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2C0C-947F-4FA0-8D33-36556068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4F12-F4B4-4551-A2DA-64013DB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76FE-C905-4B9D-8F81-658D5017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59DB-9CEB-489E-9C51-554B82E1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B7B9-37BC-4020-B63C-CE9CB0F5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D0F-DBD6-4E9E-AC54-6856FCCE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71B-7998-4725-B4F8-E2A863EC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CC0-0FF4-4157-A5AD-45441DE0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18C-F30A-4886-AC6C-66288A7F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EC1-7E40-496E-AC38-7D114350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236-4C09-40D4-8B9A-D959B9EF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694-4F15-4682-BA4F-AE5183D8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A793-B19A-4297-BEB5-5AF312C2BEB8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D558-86E3-46EF-92A5-00A04CD457BA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Video game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ould video games be more appealing to women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asons why women don't  prefer playing video games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iculties to play a video games with many confusing butt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dislike violent video ga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sometimes need help so to be able to start a video g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lutions and good ways so video games be more appealing to women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rs of video games could make easier the operation of a g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oduce games with recognizable characters such as Harry Potter and Spiderm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mes which can women participate in the game by playing in two player mode with their boyfrie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of  no participation of a women in a video gam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7" descr="123"/>
          <p:cNvPicPr/>
          <p:nvPr/>
        </p:nvPicPr>
        <p:blipFill>
          <a:blip r:embed="rId1"/>
          <a:stretch/>
        </p:blipFill>
        <p:spPr>
          <a:xfrm>
            <a:off x="2050920" y="2349360"/>
            <a:ext cx="52578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of a video game which is more assembling to wom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Picture 6" descr="071024145626-large"/>
          <p:cNvPicPr/>
          <p:nvPr/>
        </p:nvPicPr>
        <p:blipFill>
          <a:blip r:embed="rId1"/>
          <a:stretch/>
        </p:blipFill>
        <p:spPr>
          <a:xfrm>
            <a:off x="1714680" y="194796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43:22Z</dcterms:created>
  <dc:creator>test</dc:creator>
  <dc:description/>
  <dc:language>en-US</dc:language>
  <cp:lastModifiedBy>Windows7</cp:lastModifiedBy>
  <dcterms:modified xsi:type="dcterms:W3CDTF">2010-02-24T18:08:11Z</dcterms:modified>
  <cp:revision>5</cp:revision>
  <dc:subject/>
  <dc:title>Video games</dc:title>
</cp:coreProperties>
</file>