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49CF-58F5-475C-BD09-6B5B547A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E03-9957-44A5-8F68-A78269E0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0DF-328D-4676-BBF7-AF0E7396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6DC8-34F3-4BAD-AED5-13564335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52F8-59F6-4D7B-9891-1BBAE1EB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FE58-3AA4-4177-B919-03D8D38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763-F923-4E28-88EE-A816D4F3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6807-39EF-4602-8D1C-5C0FED05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6BF7-8399-447A-894B-DF741642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BF7E-D739-4F50-95CB-CAE89211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6B75-A3E4-44D6-94EF-8C502AC2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2191-21CC-4FA5-BB39-BA037845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89EC-25CB-45C3-858A-5D37DBAE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E3D4-C6FA-44FF-A591-B7980541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1D8A-9A12-4AAE-AAEE-54F8A908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EECD-AF21-4107-BCAC-4905B430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4D66-1BCD-4FE0-9689-061D2C05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D3CD-C335-45C5-B700-FAFEBE52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01A-68D9-43A3-9B46-CF0C4FFB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EC9-7767-4693-8DB9-EAFCCEB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B1C-0A85-40A1-9A34-A360D842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4DA-E00A-486D-9544-E68344FE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21D-3B9F-4DA6-A7BF-E1F8B92B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CFF-902F-4900-BF94-62701596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6C7C-9547-426B-B1C9-B0C6CDB4CE2D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D034-E011-4056-B266-E5BF5CE98023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Video gam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ould video games be more appealing to women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asons why women don't  prefer playing video game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iculties to play a video games with many confusing butt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dislike violent video g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sometimes need help so to be able to start a video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lutions and good ways so video games be more appealing to women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rs of video games could make easier the operation of a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oduce games with recognizable characters such as Harry Potter and Spider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mes which can women participate in the game by playing in two player mode with their boyfri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 no participation of a women in a video ga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123"/>
          <p:cNvPicPr/>
          <p:nvPr/>
        </p:nvPicPr>
        <p:blipFill>
          <a:blip r:embed="rId1"/>
          <a:stretch/>
        </p:blipFill>
        <p:spPr>
          <a:xfrm>
            <a:off x="2050920" y="234936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a video game which is more assembling to wom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6" descr="071024145626-large"/>
          <p:cNvPicPr/>
          <p:nvPr/>
        </p:nvPicPr>
        <p:blipFill>
          <a:blip r:embed="rId1"/>
          <a:stretch/>
        </p:blipFill>
        <p:spPr>
          <a:xfrm>
            <a:off x="1714680" y="194796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43:22Z</dcterms:created>
  <dc:creator>test</dc:creator>
  <dc:description/>
  <dc:language>en-US</dc:language>
  <cp:lastModifiedBy>Windows7</cp:lastModifiedBy>
  <dcterms:modified xsi:type="dcterms:W3CDTF">2010-02-24T18:08:11Z</dcterms:modified>
  <cp:revision>5</cp:revision>
  <dc:subject/>
  <dc:title>Video games</dc:title>
</cp:coreProperties>
</file>