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8825-E0E0-4BE3-895C-30AF8CDC4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6CBD-FA23-455F-B69B-8B4541A80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F6E0-0F66-4F2D-A5BB-8DF4FC0B9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5AE0-069E-4B4B-8A8A-2CBC05488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3B605-6558-4933-9A21-1E6888A9D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76946-134E-4BB0-B7DB-C7318C1BC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EB8CD-9D2C-4AB0-A8A8-160A36EB9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D3557-B2D8-4D2E-92FB-62F9EA516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D6E13-B553-4DCF-B423-C356F8D6D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D5E59-61DB-47D3-B76A-4175FFBC2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6A299-A59B-4F67-9FA0-416A51E87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3CDA-0E06-429E-B9B0-CE7B18B73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D1423-A96E-49D5-8D21-FBDEF3047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0E7B9-48A4-4A2F-980D-65C40AFFF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6A5BA-E5F4-4DDE-960F-076D327F0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89DC0-C083-4E7C-A65F-DBD96CA9D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188EB-3698-498E-98BB-004773B24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DD68-A48F-4285-9827-228588B56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65A5-0529-4208-9C88-7D32CD919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45FB-FD9C-44CF-BDAF-4111A8CFC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686F-8A9D-48CB-8A63-2B3403546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BE46-ECF5-4C3B-A852-E300AB3A3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AB7C-3F58-48D7-A5C7-655AAACA3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DDA7-1BB2-455B-A65F-CA8668BB3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C7B59-C405-45DA-8BE4-7A7E176C285F}" type="slidenum"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84800-2EAD-4D72-8594-66BEA05E05EF}" type="slidenum"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Video games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w could video games be more appealing to women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Reasons why women don't  prefer playing video games.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iculties to play a video games with many confusing button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omen dislike violent video gam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omen sometimes need help so to be able to start a video gam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Solutions and good ways so video games be more appealing to women 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ducers of video games could make easier the operation of a gam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 produce games with recognizable characters such as Harry Potter and Spiderma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ames which can women participate in the game by playing in two player mode with their boyfriend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Results of  no participation of a women in a video gam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1" name="Picture 7" descr="123"/>
          <p:cNvPicPr/>
          <p:nvPr/>
        </p:nvPicPr>
        <p:blipFill>
          <a:blip r:embed="rId1"/>
          <a:stretch/>
        </p:blipFill>
        <p:spPr>
          <a:xfrm>
            <a:off x="2050920" y="2349360"/>
            <a:ext cx="5257800" cy="34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Results of a video game which is more assembling to wome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3" name="Picture 6" descr="071024145626-large"/>
          <p:cNvPicPr/>
          <p:nvPr/>
        </p:nvPicPr>
        <p:blipFill>
          <a:blip r:embed="rId1"/>
          <a:stretch/>
        </p:blipFill>
        <p:spPr>
          <a:xfrm>
            <a:off x="1714680" y="1947960"/>
            <a:ext cx="571500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12:43:22Z</dcterms:created>
  <dc:creator>test</dc:creator>
  <dc:description/>
  <dc:language>en-US</dc:language>
  <cp:lastModifiedBy>Windows7</cp:lastModifiedBy>
  <dcterms:modified xsi:type="dcterms:W3CDTF">2010-02-24T18:08:11Z</dcterms:modified>
  <cp:revision>5</cp:revision>
  <dc:subject/>
  <dc:title>Video games</dc:title>
</cp:coreProperties>
</file>