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730-02D8-4A57-85CC-B1C205B3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037-5E89-4944-87EB-7B15E7EF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C08-969C-4CAB-A4B1-0F759668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8DB-EEEF-4128-8270-3601288C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53D4-EE42-4EC7-BA1E-5815F953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DAA6-FB45-45CE-B301-7A009E22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A1E8-8E9B-4038-B5E8-E5B82F0A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C0B7-8252-426B-902B-AA78350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746C-0635-4959-B17B-303A23F9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1E48-8382-491B-B6D0-80900724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A765-F586-42CB-93AE-D01C7EF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9C2-30A5-442D-A517-C758140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40E0-2A7A-4E14-83FC-615EC995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4CBC-F96C-4A28-A5AB-8F8AD97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7AAA-B05A-457B-BAE3-48AD186E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F136-DEAB-4366-9441-AB24FFC4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92C0-92C9-4B76-A1F4-A07F244B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CE4-5B1A-4A67-BB72-C5E7EB0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725-F791-4BB6-AB97-BE46CA71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CE8-724A-476D-A897-5D91BF12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3CD-F42F-40E1-A189-50B37CE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889-B1C5-4FD6-A66D-A571BD1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758-DD21-420D-9F65-6C0635B9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20A-980C-491C-BE0B-CD855380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F724-D59E-48DC-B35A-429AD699FF5F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BD2E-7753-43D5-A148-8DEA200C95E3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Video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ould video games be more appealing to wome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Reasons why women don't  prefer playing video game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iculties to play a video games with many confusing butt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dislike violent video g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men sometimes need help so to be able to start a video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lutions and good ways so video games be more appealing to women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rs of video games could make easier the operation of a ga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produce games with recognizable characters such as Harry Potter and Spider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mes which can women participate in the game by playing in two player mode with their boyfrie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 no participation of a women in a video gam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Picture 7" descr="123"/>
          <p:cNvPicPr/>
          <p:nvPr/>
        </p:nvPicPr>
        <p:blipFill>
          <a:blip r:embed="rId1"/>
          <a:stretch/>
        </p:blipFill>
        <p:spPr>
          <a:xfrm>
            <a:off x="2050920" y="2349360"/>
            <a:ext cx="52578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sults of a video game which is more assembling to wome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Picture 6" descr="071024145626-large"/>
          <p:cNvPicPr/>
          <p:nvPr/>
        </p:nvPicPr>
        <p:blipFill>
          <a:blip r:embed="rId1"/>
          <a:stretch/>
        </p:blipFill>
        <p:spPr>
          <a:xfrm>
            <a:off x="1714680" y="19479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43:22Z</dcterms:created>
  <dc:creator>test</dc:creator>
  <dc:description/>
  <dc:language>en-US</dc:language>
  <cp:lastModifiedBy>Windows7</cp:lastModifiedBy>
  <dcterms:modified xsi:type="dcterms:W3CDTF">2010-02-24T18:08:11Z</dcterms:modified>
  <cp:revision>5</cp:revision>
  <dc:subject/>
  <dc:title>Video games</dc:title>
</cp:coreProperties>
</file>