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46D-9C94-4E31-8538-6F45D216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5B0-8EBA-4A05-8DFD-124FEC41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7D0-3C66-41B9-AD60-8588D1D8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909-5C22-4DD9-8C40-21B085A9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4F33-7BFE-4F33-87CF-C0B2933F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6712-D869-407D-B446-F6F247CE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9F74-1B17-4C14-89A5-C905FDC5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80CC-01A6-49AB-BA06-DC1B21FB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C632-B1AB-493F-A60E-5ECF9E50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5A3C-306B-4F98-BD4A-73F57F22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1D16-3824-447E-A57A-20BB211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269-8281-4C1B-874D-2E3E013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D5DC-222A-45CA-9A59-DD81A7B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16A-D810-428A-9684-0B84DB5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4D64-3E41-4E02-817D-B4B9AE29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116-DFB1-432C-ABC3-57E62A0B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D83F-211C-4526-B6DE-90999BAD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1B4-E1B9-40E6-A9BB-32921338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454-4D28-44E4-8A9A-D0ED2C92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C93-F221-4FB9-9F2B-DD1023B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E7F-6DD7-46C9-B5FC-40C5B4A6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182-CFFC-4FAE-8139-FD4C1452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3D5-0077-4B2D-A424-608483F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064-1E7B-48DC-9C8D-7C8B3F2B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1599-78AF-48F1-BBAE-8AF46E20B5FA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BA6-3F87-4C2F-A2E8-34C7B47041E5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ideo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video games be more appealing to wome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asons why women don't  prefer playing video game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iculties to play a video games with many confusing butt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dislike violent video g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sometimes need help so to be able to start a video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lutions and good ways so video games be more appealing to women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rs of video games could make easier the operation of a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duce games with recognizable characters such as Harry Potter and Spider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mes which can women participate in the game by playing in two player mode with their boyfri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 no participation of a women in a video ga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123"/>
          <p:cNvPicPr/>
          <p:nvPr/>
        </p:nvPicPr>
        <p:blipFill>
          <a:blip r:embed="rId1"/>
          <a:stretch/>
        </p:blipFill>
        <p:spPr>
          <a:xfrm>
            <a:off x="2050920" y="234936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a video game which is more assembling to wom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071024145626-large"/>
          <p:cNvPicPr/>
          <p:nvPr/>
        </p:nvPicPr>
        <p:blipFill>
          <a:blip r:embed="rId1"/>
          <a:stretch/>
        </p:blipFill>
        <p:spPr>
          <a:xfrm>
            <a:off x="1714680" y="19479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43:22Z</dcterms:created>
  <dc:creator>test</dc:creator>
  <dc:description/>
  <dc:language>en-US</dc:language>
  <cp:lastModifiedBy>Windows7</cp:lastModifiedBy>
  <dcterms:modified xsi:type="dcterms:W3CDTF">2010-02-24T18:08:11Z</dcterms:modified>
  <cp:revision>5</cp:revision>
  <dc:subject/>
  <dc:title>Video games</dc:title>
</cp:coreProperties>
</file>